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F07-D9E3-4AF3-BA16-DC337D30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7AC-B3DE-4621-923F-13C1377A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3FD-8584-4339-BA70-88293ED9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B99-C19A-4C86-8FC4-D4E766A9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9447-B9AC-4077-890D-5B29F14E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F701-C246-4D88-86D8-93A1DCAB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8633-8658-4F46-ADC9-A7CD12C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E54-FDB3-452E-B951-1A5F317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82D0-5919-4043-B3DB-750A15C8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6F37-F9B6-44FB-971B-B985B571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E887-8EB4-4B0D-8B6D-A192C1B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973-574F-4260-84AE-89CB7B11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4FFF-AB33-4990-BB61-A05B1B06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9C1C-3B5E-421C-9C87-7675CDD8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A0D9-3FD1-4AF5-8F18-2356BF3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719-E765-43AA-8DAB-DEC19E25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F1A-7BDE-4AB1-A955-8ED0D333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B00-413D-469E-8389-5C4FCD60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8C4-288A-44DE-8A82-20719B6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B28-0D34-4FE5-AF64-925B7C38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D7A-066D-41D3-83BD-DAD7574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5E5-A96E-475B-8496-1A91432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A7E-5F2B-4B8C-94AA-076E832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D6F-4304-4A9A-BB1F-FDBF36D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3ED-4723-4541-A80E-0454167C7B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905E-2471-416D-B78E-CC70B6759D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QUITY AND ACCES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EF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DEAS FOR TEACHING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QUITY AND ACCES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line key ideas in the policy and discuss; create a notecard with main idea on one side and on the other side: “who, what where when and why?” (use as a primary source do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the chart throughout the workshop as strategies eme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 success s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age in theme so that students are “cau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literacy strategies and connect to equ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DEAS FOR TEACHING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QUITY AND ACCES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elp with state standardized test s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0:10:58Z</dcterms:created>
  <dc:creator>South TI</dc:creator>
  <dc:description/>
  <dc:language>en-US</dc:language>
  <cp:lastModifiedBy>South TI</cp:lastModifiedBy>
  <dcterms:modified xsi:type="dcterms:W3CDTF">2008-08-06T18:00:32Z</dcterms:modified>
  <cp:revision>11</cp:revision>
  <dc:subject/>
  <dc:title>EQUITY AND ACCESS</dc:title>
</cp:coreProperties>
</file>